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0C5B-6C89-4182-982E-BB79C22C97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77F1-5B43-4DB5-AD06-B7F2BE77F9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D5B7-CB39-4788-A750-BDF1A73132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A1C2-314D-4C29-AD98-0A46B824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037E-07F9-40A7-A490-4E0D52F4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6CCB-8C3D-4A5B-A067-85E25D0A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7DD2-0D2A-4789-92EE-9FCC49F3A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A462-9D98-4CEC-B8FB-21713DFD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3543-A9C1-485D-BDAB-8F6CA652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5784-A066-4B6A-B1E9-A2BC2E9D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7DFF-670B-4E6E-82B0-FB9BE7BA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69FF-E06D-49A6-B3D7-063EBD8B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3075-E694-441A-BC54-53EB1C38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C897-5D05-4A59-8A71-A9F84591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BEA6-8CB7-4117-BA7E-7C04A281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38B5-A2AE-4B21-9C99-B71F8DE2FA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00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LMV 2010.1: Ein kurzes How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feld 3"/>
          <p:cNvSpPr/>
          <p:nvPr/>
        </p:nvSpPr>
        <p:spPr>
          <a:xfrm>
            <a:off x="0" y="34290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Wie überlebe ich die Landesmitgliederversammlung der Piratenpartei Berlin ohne mich zum Obst zu mac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Wissenswert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Hashtag: #lmv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WLAN: Es gibt Piratenfreifunk einfach einlogg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Raucherzimmer: Aus dem Flur, zweimal lin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Essen: Es gibt Schnittch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Ablauf der Veranstaltu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000000"/>
                </a:solidFill>
                <a:latin typeface="Calibri"/>
              </a:rPr>
              <a:t>Kurze Begrüßung durch den Vorstand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Wahl der Versammlungsleiter + Protokollanten im Pa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Vorstellung und Bestimmung des Wahlleiters und seiner Wahlhelf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Vorstellung der Wahl- und Geschäftsordnung und Abstimmung darüb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Anträg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GO Anträge durch heben beider Hände signalisier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Es können nur die GO Anträge gestellt werden die es gibt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Sonstige Anträge im Wortlaut einreich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Diskussion an den fest installierten Saalmikr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Abstim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Briefumschlag mit zwei Stimmzetteln, einer mit JA, einer mit NEIN gekennzeichn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Stimmblock: Entsprechend der angegebenen Punkte wähl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Nach vorne zur Urne gehen und einwerfen, auf der JA Stimmkarte wird der Wahlgang eingetrag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Beim Vorzeitigen Verlassen der Veranstaltu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Stimmkarten und Stimmblock mitnehmen! Nicht liegen lassen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Abendveranstalt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Sanatorium 23, Frankfurter Allee 23 ab 19:3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Ansonste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Viel Spaß, die LMV ist das, was wir daraus mache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8:03:02Z</dcterms:created>
  <dc:creator>Christopher</dc:creator>
  <dc:description/>
  <dc:language>en-US</dc:language>
  <cp:lastModifiedBy>Christopher</cp:lastModifiedBy>
  <dcterms:modified xsi:type="dcterms:W3CDTF">2010-02-26T21:53:20Z</dcterms:modified>
  <cp:revision>13</cp:revision>
  <dc:subject/>
  <dc:title>LMV 2010.1: Ein kurzes HowTo</dc:title>
</cp:coreProperties>
</file>